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513-C3FE-4357-8B31-E4ADAD3A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DF4-661F-43DF-B503-C55740AB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F4D-05A2-4950-A8D7-33BE64E6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0C1-9F16-47F7-B49D-DADBEB68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C269-579E-4162-8B7F-013838F5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6CD9-554A-48EA-9E8B-8452DE3B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3EAC-1FAD-4EBE-9F17-17500695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7FA1-EF35-4FAF-9523-89A4EE88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2C77-BC5C-477B-8AC3-83A548E8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2CF3-D4CA-46B5-A8DB-E3B51B55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DF7C-CF7B-46C5-9858-171B2341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E69-7A29-4BB6-985D-4AC2F2EF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BDC1-404A-43FC-AB27-3691ACD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589A-E17E-4F35-8D13-CE204E2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FC60-41FA-4E61-B1A3-48BCCB44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E16B-8598-4448-8253-992781C4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138B-5499-430F-A92F-DED95355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2AA-C535-4C86-B22E-CB960C63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7B2-D3AF-41E5-9277-0DD56E74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04A-DEE8-4E8D-ACF9-6A87713B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A82-E9AE-4FAC-B866-00AF7003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373-00C3-4964-9542-62388BA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4D3-91D5-4036-AEF8-25E1E0EA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1B6-CA65-4F91-8E19-AB42AAA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1BA9-4587-4644-A166-8CAADAABA3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8970-B6FB-44A4-A7E4-48EE3FEC06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692280"/>
          <a:ext cx="8497800" cy="2867040"/>
        </p:xfrm>
        <a:graphic>
          <a:graphicData uri="http://schemas.openxmlformats.org/drawingml/2006/table">
            <a:tbl>
              <a:tblPr/>
              <a:tblGrid>
                <a:gridCol w="5468760"/>
                <a:gridCol w="3029040"/>
              </a:tblGrid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33480"/>
                          <a:tab algn="l" pos="1866960"/>
                          <a:tab algn="l" pos="2800440"/>
                          <a:tab algn="l" pos="3733920"/>
                          <a:tab algn="l" pos="4667400"/>
                          <a:tab algn="l" pos="5600880"/>
                          <a:tab algn="l" pos="6534000"/>
                          <a:tab algn="l" pos="7467480"/>
                          <a:tab algn="l" pos="8400960"/>
                          <a:tab algn="l" pos="9334440"/>
                          <a:tab algn="l" pos="1026792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СТЕМ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33480"/>
                          <a:tab algn="l" pos="1866960"/>
                          <a:tab algn="l" pos="2800440"/>
                          <a:tab algn="l" pos="3733920"/>
                          <a:tab algn="l" pos="4667400"/>
                          <a:tab algn="l" pos="5600880"/>
                          <a:tab algn="l" pos="6534000"/>
                          <a:tab algn="l" pos="7467480"/>
                          <a:tab algn="l" pos="8400960"/>
                          <a:tab algn="l" pos="9334440"/>
                          <a:tab algn="l" pos="1026792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33480"/>
                          <a:tab algn="l" pos="1866960"/>
                          <a:tab algn="l" pos="2800440"/>
                          <a:tab algn="l" pos="3733920"/>
                          <a:tab algn="l" pos="4667400"/>
                          <a:tab algn="l" pos="5600880"/>
                          <a:tab algn="l" pos="6534000"/>
                          <a:tab algn="l" pos="7467480"/>
                          <a:tab algn="l" pos="8400960"/>
                          <a:tab algn="l" pos="9334440"/>
                          <a:tab algn="l" pos="1026792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БАЛАНСИРОВАННЫ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33480"/>
                          <a:tab algn="l" pos="1866960"/>
                          <a:tab algn="l" pos="2800440"/>
                          <a:tab algn="l" pos="3733920"/>
                          <a:tab algn="l" pos="4667400"/>
                          <a:tab algn="l" pos="5600880"/>
                          <a:tab algn="l" pos="6534000"/>
                          <a:tab algn="l" pos="7467480"/>
                          <a:tab algn="l" pos="8400960"/>
                          <a:tab algn="l" pos="9334440"/>
                          <a:tab algn="l" pos="1026792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АТЕ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ЙТИНГ-АНАЛИ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АМАТУРГИЯ СОБЫТИЙ И ЯВЛЕ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 rot="3372600">
            <a:off x="2529360" y="4050000"/>
            <a:ext cx="1150920" cy="343080"/>
          </a:xfrm>
          <a:prstGeom prst="rightArrow">
            <a:avLst>
              <a:gd name="adj1" fmla="val 50000"/>
              <a:gd name="adj2" fmla="val 838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7222800">
            <a:off x="5536080" y="3976920"/>
            <a:ext cx="1150920" cy="343080"/>
          </a:xfrm>
          <a:prstGeom prst="rightArrow">
            <a:avLst>
              <a:gd name="adj1" fmla="val 50000"/>
              <a:gd name="adj2" fmla="val 838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52354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ЕХНОЛОГИЯ ВНЕДР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907920"/>
            <a:ext cx="295272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учная де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1184400"/>
            <a:ext cx="2521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недр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3576600"/>
            <a:ext cx="295272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учная де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776760"/>
            <a:ext cx="2521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недр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1484280"/>
            <a:ext cx="792000" cy="142920"/>
          </a:xfrm>
          <a:prstGeom prst="rightArrow">
            <a:avLst>
              <a:gd name="adj1" fmla="val 50000"/>
              <a:gd name="adj2" fmla="val 1385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6000" y="1484280"/>
            <a:ext cx="792000" cy="142920"/>
          </a:xfrm>
          <a:prstGeom prst="rightArrow">
            <a:avLst>
              <a:gd name="adj1" fmla="val 50000"/>
              <a:gd name="adj2" fmla="val 1385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4078440"/>
            <a:ext cx="792000" cy="142560"/>
          </a:xfrm>
          <a:prstGeom prst="rightArrow">
            <a:avLst>
              <a:gd name="adj1" fmla="val 50000"/>
              <a:gd name="adj2" fmla="val 13888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4006800"/>
            <a:ext cx="792360" cy="142920"/>
          </a:xfrm>
          <a:prstGeom prst="rightArrow">
            <a:avLst>
              <a:gd name="adj1" fmla="val 50000"/>
              <a:gd name="adj2" fmla="val 13860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374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979640" y="620280"/>
            <a:ext cx="54720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СПРЕСС ДИАГНОСТ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2276640"/>
            <a:ext cx="5472000" cy="15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ТА СБАЛАНСИРОВАННЫХ ПОКАЗАТЕ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4435560"/>
            <a:ext cx="5472000" cy="57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РОПРИЯ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5803920"/>
            <a:ext cx="5472000" cy="57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ВЛЕНЧЕСКИЙ УЧ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1773360"/>
            <a:ext cx="215640" cy="4316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393372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515772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46160" y="26028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9600" y="98100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8320" y="97956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4796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97956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6724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180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960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596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8796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0868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4880" y="97956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632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0540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5040" y="97956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2468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70880" y="1917720"/>
            <a:ext cx="430200" cy="28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21000"/>
            <a:ext cx="9144000" cy="20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БЛОК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УПРАВЛЕНИЯ ЭФФЕКТИВНОСТЬЮ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>
            <a:off x="4862160" y="54756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8" name=""/>
          <p:cNvCxnSpPr/>
          <p:nvPr/>
        </p:nvCxnSpPr>
        <p:spPr>
          <a:xfrm>
            <a:off x="1693440" y="134136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9" name=""/>
          <p:cNvCxnSpPr/>
          <p:nvPr/>
        </p:nvCxnSpPr>
        <p:spPr>
          <a:xfrm>
            <a:off x="1190160" y="1628280"/>
            <a:ext cx="1080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0" name=""/>
          <p:cNvCxnSpPr/>
          <p:nvPr/>
        </p:nvCxnSpPr>
        <p:spPr>
          <a:xfrm>
            <a:off x="1190160" y="162720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1" name=""/>
          <p:cNvCxnSpPr/>
          <p:nvPr/>
        </p:nvCxnSpPr>
        <p:spPr>
          <a:xfrm>
            <a:off x="1693440" y="162828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2" name=""/>
          <p:cNvCxnSpPr/>
          <p:nvPr/>
        </p:nvCxnSpPr>
        <p:spPr>
          <a:xfrm>
            <a:off x="2269800" y="162828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3" name=""/>
          <p:cNvCxnSpPr/>
          <p:nvPr/>
        </p:nvCxnSpPr>
        <p:spPr>
          <a:xfrm>
            <a:off x="3422160" y="134136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4" name=""/>
          <p:cNvCxnSpPr/>
          <p:nvPr/>
        </p:nvCxnSpPr>
        <p:spPr>
          <a:xfrm>
            <a:off x="3134880" y="162720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5" name=""/>
          <p:cNvCxnSpPr/>
          <p:nvPr/>
        </p:nvCxnSpPr>
        <p:spPr>
          <a:xfrm>
            <a:off x="3782520" y="162828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6" name=""/>
          <p:cNvCxnSpPr/>
          <p:nvPr/>
        </p:nvCxnSpPr>
        <p:spPr>
          <a:xfrm>
            <a:off x="3134880" y="1628280"/>
            <a:ext cx="6483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7" name=""/>
          <p:cNvCxnSpPr/>
          <p:nvPr/>
        </p:nvCxnSpPr>
        <p:spPr>
          <a:xfrm>
            <a:off x="4789080" y="134136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8" name=""/>
          <p:cNvCxnSpPr/>
          <p:nvPr/>
        </p:nvCxnSpPr>
        <p:spPr>
          <a:xfrm>
            <a:off x="4501800" y="162720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9" name=""/>
          <p:cNvCxnSpPr/>
          <p:nvPr/>
        </p:nvCxnSpPr>
        <p:spPr>
          <a:xfrm>
            <a:off x="5149440" y="162828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0" name=""/>
          <p:cNvCxnSpPr/>
          <p:nvPr/>
        </p:nvCxnSpPr>
        <p:spPr>
          <a:xfrm>
            <a:off x="4501800" y="1628280"/>
            <a:ext cx="6483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>
            <a:off x="6230520" y="134136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2" name=""/>
          <p:cNvCxnSpPr/>
          <p:nvPr/>
        </p:nvCxnSpPr>
        <p:spPr>
          <a:xfrm>
            <a:off x="5943240" y="162720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3" name=""/>
          <p:cNvCxnSpPr/>
          <p:nvPr/>
        </p:nvCxnSpPr>
        <p:spPr>
          <a:xfrm>
            <a:off x="6590880" y="162828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4" name=""/>
          <p:cNvCxnSpPr/>
          <p:nvPr/>
        </p:nvCxnSpPr>
        <p:spPr>
          <a:xfrm>
            <a:off x="5943240" y="1628280"/>
            <a:ext cx="6483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5" name=""/>
          <p:cNvCxnSpPr/>
          <p:nvPr/>
        </p:nvCxnSpPr>
        <p:spPr>
          <a:xfrm>
            <a:off x="7598880" y="134136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6" name=""/>
          <p:cNvCxnSpPr/>
          <p:nvPr/>
        </p:nvCxnSpPr>
        <p:spPr>
          <a:xfrm>
            <a:off x="7311600" y="1627200"/>
            <a:ext cx="108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7" name=""/>
          <p:cNvCxnSpPr/>
          <p:nvPr/>
        </p:nvCxnSpPr>
        <p:spPr>
          <a:xfrm>
            <a:off x="7959240" y="162828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8" name=""/>
          <p:cNvCxnSpPr/>
          <p:nvPr/>
        </p:nvCxnSpPr>
        <p:spPr>
          <a:xfrm>
            <a:off x="7311600" y="1628280"/>
            <a:ext cx="64836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9" name=""/>
          <p:cNvCxnSpPr/>
          <p:nvPr/>
        </p:nvCxnSpPr>
        <p:spPr>
          <a:xfrm>
            <a:off x="1550520" y="764640"/>
            <a:ext cx="6049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0" name=""/>
          <p:cNvCxnSpPr/>
          <p:nvPr/>
        </p:nvCxnSpPr>
        <p:spPr>
          <a:xfrm>
            <a:off x="1550520" y="76464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1" name=""/>
          <p:cNvCxnSpPr/>
          <p:nvPr/>
        </p:nvCxnSpPr>
        <p:spPr>
          <a:xfrm>
            <a:off x="7598880" y="76464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2" name=""/>
          <p:cNvCxnSpPr/>
          <p:nvPr/>
        </p:nvCxnSpPr>
        <p:spPr>
          <a:xfrm>
            <a:off x="6230520" y="76464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3" name=""/>
          <p:cNvCxnSpPr/>
          <p:nvPr/>
        </p:nvCxnSpPr>
        <p:spPr>
          <a:xfrm>
            <a:off x="4862160" y="76464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/>
          <p:nvPr/>
        </p:nvCxnSpPr>
        <p:spPr>
          <a:xfrm>
            <a:off x="3422160" y="764640"/>
            <a:ext cx="1080" cy="21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1640" y="260280"/>
            <a:ext cx="7200720" cy="231156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ЛОК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ПРАВЛЕН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ЭФФЕКТИВНОСТЬ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2997360"/>
            <a:ext cx="626436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АБОТКА, СОПРОВОЖД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КОНТРОЛЬ ПОВЫШЕНИЯ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ФФЕКТИВ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АНИРОВАНИЕ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ТАВЛЕНИЕ И АНАЛИ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ПРАВЛЕНЧЕСКОГО УЧ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4247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ЗУЛЬТА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2565360"/>
            <a:ext cx="1295640" cy="22536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бы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5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3440" y="1484280"/>
            <a:ext cx="1295280" cy="3345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бы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6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---------------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14:55Z</dcterms:created>
  <dc:creator>Институт Корпоративных Решений</dc:creator>
  <dc:description/>
  <dc:language>en-US</dc:language>
  <cp:lastModifiedBy>INTELPART</cp:lastModifiedBy>
  <dcterms:modified xsi:type="dcterms:W3CDTF">2005-09-02T07:48:28Z</dcterms:modified>
  <cp:revision>35</cp:revision>
  <dc:subject/>
  <dc:title>Технология управления эффективностью</dc:title>
</cp:coreProperties>
</file>